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169-A554-4B47-9D02-1E0D78DD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B10-87BB-4492-975A-C0873158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E09-18B8-4D28-8C81-FC160DC6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495-9D1C-4F5B-ABDE-55D34A13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EEA5-B24D-47FA-9E19-1E3D2241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07B7-2F74-4152-8017-9ED2E0A0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1A3-B780-464C-BE03-FF082D71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E37-F83A-49B5-9309-CF3E4E4A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5E2C-3308-4A51-954E-D829EC72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BA38-9A86-4AB7-9DC6-26D7939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384-A404-4353-9F93-5CED3E48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B52-BDC1-4FF3-AFB9-CD1D1D17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31FE-DCBA-4A70-B09A-1D1D80A6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D113-F1F1-49AE-87D3-337C567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F6E-3A81-4E00-8BEB-9387D17E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AA53-6B06-473B-BB9B-9EF783F3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7FE6-E690-40FE-9554-A63068D3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ADC-271C-4930-9898-282B1FB4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4B6-D1DD-4560-9D13-E79EC4B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9C6-7C04-4026-AC7D-5758C76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BFB-94E0-4636-AD4E-836CA8A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BED-ACE5-4C8A-8E93-D528E77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926-D94A-4EFB-A056-3467261D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CB8-8510-4BAD-8223-23A3DBA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7019-7D6A-477A-89CB-3E3040B2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4CAA-7AC4-4C1D-B4B4-332B4689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zing Se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s the extremes of the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 Sele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the extremes of one end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ruptive Se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against the “average”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-Dependent Se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creases the frequency of more common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u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pulations of two different species interact over a long period of time, changes in the gene pool of one species leads to changes in the gene pool of the other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ator and prey; flowers and pol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lerian mimicry = toxic look-a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esian mimicry = non-toxic look-a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first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vergent vs. Divergent Evolu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nc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les and sh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nc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vs. polar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uins vs. other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adualism vs. Punctuated Equilibrium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ualis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 occurs as a slow stepwise development of a species over long periods of time (millions of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nctuated Equilibriu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species arose suddenly in short periods of time (thousands of yea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in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anent loss of genetic diversity that affects the evolution of macro evolutionar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es evolution affect biodiversit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tion minus extinction equals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is a natur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sconceptions about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 is different from survival of the stro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did not evolve from apes, they both evolved from a commo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are not becoming more “perf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ory vs. F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heories = integrated explanation of many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lways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he same as comm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dis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re pieces of information that have not been ref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ctual Evidence for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-scale changes observed or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scale changes in the fossil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 not a ladder but a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sequences have been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gial signs present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e of a population’s genetic makeup through successive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, not individuals evolve by becoming genetic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ecies descended from earlier, ancestr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Fact – Natural Selection as a mechanism is a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on by Natural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had been thought of for centuries but mechanism wa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Darwin (1809-1882) wrote “The Origin of Species by Means of Natural Selection” in 1859 and put forth a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Galapagos ecosystem as a ship’s natur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5 Premi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in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tion that can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traits cannot be pas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genetic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b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 reproductiv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d changes leads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cro vs. Macro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evolution – Small genetic changes that occur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evolution – Long-term large-scale evolutionary changes among groups of species in which new species are formed from ancestral species and other species are lost through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cro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31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genetic variability in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 -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– genetic bias for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Flow -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Drift –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tificial se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moth1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810240" cy="1992240"/>
          </a:xfrm>
          <a:prstGeom prst="rect">
            <a:avLst/>
          </a:prstGeom>
          <a:ln w="0">
            <a:noFill/>
          </a:ln>
        </p:spPr>
      </p:pic>
      <p:pic>
        <p:nvPicPr>
          <p:cNvPr id="140" name="moth2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617920" cy="3108240"/>
          </a:xfrm>
          <a:prstGeom prst="rect">
            <a:avLst/>
          </a:prstGeom>
          <a:ln w="0">
            <a:noFill/>
          </a:ln>
        </p:spPr>
      </p:pic>
      <p:pic>
        <p:nvPicPr>
          <p:cNvPr id="141" name="moth3" descr=""/>
          <p:cNvPicPr/>
          <p:nvPr/>
        </p:nvPicPr>
        <p:blipFill>
          <a:blip r:embed="rId3"/>
          <a:stretch/>
        </p:blipFill>
        <p:spPr>
          <a:xfrm>
            <a:off x="1447920" y="297180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croevolu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Creation of a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Isolation (Allopa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Isolation (Sympa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survival and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3:14:39Z</dcterms:created>
  <dc:creator>Pace Academy</dc:creator>
  <dc:description/>
  <dc:language>en-US</dc:language>
  <cp:lastModifiedBy>Pace Academy</cp:lastModifiedBy>
  <cp:lastPrinted>2003-09-24T17:21:38Z</cp:lastPrinted>
  <dcterms:modified xsi:type="dcterms:W3CDTF">2006-09-15T13:48:30Z</dcterms:modified>
  <cp:revision>11</cp:revision>
  <dc:subject/>
  <dc:title>Evolution</dc:title>
</cp:coreProperties>
</file>